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FF7-039B-4102-B9B5-E2AE9347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46D-1561-4D74-A96A-2D663871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69A-DD70-4C71-A206-EA495900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35E7-5B04-4D1A-8EB2-C865E7D3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D762-63F7-43F4-AB30-FF9C2368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58EA-18B5-45EC-907C-1B4DEA66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71DD-ABEF-49B4-A9FF-553ED1AB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3AB2-3447-4F3C-9326-550C7165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A91E-C3D7-4C97-A441-93ECF7E9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5174-F26F-47D1-8DD4-CBE39B01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85B7-3E56-4ED4-964B-542CEFCB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6381-F23B-4647-9A37-F34FDB5A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AA80-3CB2-484C-9FFE-0B2D357D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0C3A-72D9-47F6-A22F-77B3A6CB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D4BD-70EE-4E29-9479-DEFB06EF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BB8C-3AE2-4452-ACBB-6EC56199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9C0C-3A60-40E3-B9B9-E0DB6DBA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76B-A2F4-4DFD-998F-E5A3CFB6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075-F25E-499D-8F64-9B2D8967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F63-EBA8-48FF-8AC2-F9BBDA8F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6FD2-6F89-4F47-8235-122D1415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F4C-842E-486A-9488-D1FD2C54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EEF-8A86-4ED0-B925-6CB2D5F9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E69-F5F4-4278-A6E1-3CA89159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3F96-0F75-4B80-9B38-FBF6618A080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C20E-AE96-43C8-9E37-0EABD82B965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Scottsboro Trial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stin 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nelle H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eople involve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 black teenager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 white wo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SB_SB1A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53341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hat Happene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1931(Still during the Great Depression), the 9 Black teenagers where looking for work in Northern Alabama on a freight train with two hobo white girls. The 9 black teenagers where arrested and sentenced to trials because they were accused of all raping the two white girl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scott_nine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Trial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rials where held in Scottsboro, Alabama. The  lasted 12 days. Thousands of people came from allover to watch the trials and to see the outco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77169_f520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3657600" cy="25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t Fai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of the teenagers where illiterate and most did not know how a court room setting operated. They were poorly defended and most of them didn’t even have time to contact friends or family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jury was all composed of wh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were trials for something that all the boys didn’t 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leiboandhp" descr=""/>
          <p:cNvPicPr/>
          <p:nvPr/>
        </p:nvPicPr>
        <p:blipFill>
          <a:blip r:embed="rId1"/>
          <a:stretch/>
        </p:blipFill>
        <p:spPr>
          <a:xfrm>
            <a:off x="5867280" y="0"/>
            <a:ext cx="28958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Outco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rials where brought to supreme court. Most of the boys faced life sentences. But later four were releas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scotts06" descr=""/>
          <p:cNvPicPr/>
          <p:nvPr/>
        </p:nvPicPr>
        <p:blipFill>
          <a:blip r:embed="rId1"/>
          <a:stretch/>
        </p:blipFill>
        <p:spPr>
          <a:xfrm>
            <a:off x="4800600" y="3352680"/>
            <a:ext cx="23605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gal Lynching”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LD(international labor defense) called the trials thi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Scottsboro_AL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30178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nection to TKA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connected to TKAM because these trials took place during the Great Depression. It also is a trial where a black man is blamed for a crime that he did not d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20:50:49Z</dcterms:created>
  <dc:creator>Kathleen</dc:creator>
  <dc:description/>
  <dc:language>en-US</dc:language>
  <cp:lastModifiedBy>Kathleen</cp:lastModifiedBy>
  <dcterms:modified xsi:type="dcterms:W3CDTF">2009-03-31T21:24:38Z</dcterms:modified>
  <cp:revision>1</cp:revision>
  <dc:subject/>
  <dc:title>The Scottsboro Trials</dc:title>
</cp:coreProperties>
</file>